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1458-A3D8-4968-8042-B327308765E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ow do you decide who goes in which group and with wh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D45F-7314-4078-A88C-F52CF150C89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nforc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reakthrough Framework- Precision &amp; Person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sion: what data can we use to form instructional n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o GR observation/monitoring sh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use Ondemand Adaptive, Lin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to Ondemand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ading Response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ther formal assessments- What else do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dependent Reading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Teaching for Reading strategies for further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9DEB-73DD-4877-8F9C-BCE639B5E88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ECEO_Pos_MonoTest2"/>
          <p:cNvPicPr/>
          <p:nvPr/>
        </p:nvPicPr>
        <p:blipFill>
          <a:blip r:embed="rId2"/>
          <a:stretch/>
        </p:blipFill>
        <p:spPr>
          <a:xfrm rot="21169800">
            <a:off x="10896480" y="7973640"/>
            <a:ext cx="1397160" cy="1397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4" descr="DETearly368_Sml"/>
          <p:cNvPicPr/>
          <p:nvPr/>
        </p:nvPicPr>
        <p:blipFill>
          <a:blip r:embed="rId2"/>
          <a:stretch/>
        </p:blipFill>
        <p:spPr>
          <a:xfrm>
            <a:off x="92790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5" descr="ECEO_Pos_MonoTest2"/>
          <p:cNvPicPr/>
          <p:nvPr/>
        </p:nvPicPr>
        <p:blipFill>
          <a:blip r:embed="rId3"/>
          <a:stretch/>
        </p:blipFill>
        <p:spPr>
          <a:xfrm rot="21180600">
            <a:off x="10896120" y="762012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9" descr="DETearly722_Sml"/>
          <p:cNvPicPr/>
          <p:nvPr/>
        </p:nvPicPr>
        <p:blipFill>
          <a:blip r:embed="rId4"/>
          <a:stretch/>
        </p:blipFill>
        <p:spPr>
          <a:xfrm>
            <a:off x="44784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0" descr="DETearly805_Sml"/>
          <p:cNvPicPr/>
          <p:nvPr/>
        </p:nvPicPr>
        <p:blipFill>
          <a:blip r:embed="rId5"/>
          <a:stretch/>
        </p:blipFill>
        <p:spPr>
          <a:xfrm>
            <a:off x="6078600" y="7910640"/>
            <a:ext cx="1466640" cy="146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DETearly281_Sml"/>
          <p:cNvPicPr/>
          <p:nvPr/>
        </p:nvPicPr>
        <p:blipFill>
          <a:blip r:embed="rId6"/>
          <a:stretch/>
        </p:blipFill>
        <p:spPr>
          <a:xfrm>
            <a:off x="76788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7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Progress%20Report%2034.pdf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166760" y="915840"/>
            <a:ext cx="10667880" cy="297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GUIDED REA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P-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66760" y="320184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ddon Malle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1"/>
          <p:cNvSpPr/>
          <p:nvPr/>
        </p:nvSpPr>
        <p:spPr>
          <a:xfrm>
            <a:off x="1014480" y="380880"/>
            <a:ext cx="11177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861840" y="167796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each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and regroup students using ongoing observation and assess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efully plan strategic reading instruction and explicitly teach small groups of stud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exts appropriate for the  common instructional needs of the grou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te active engagement in thoughtful group discuss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</a:rPr>
              <a:t>Time scheduled daily - each group approx. 20 minu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 (Continu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50880" y="1525680"/>
            <a:ext cx="1170288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200" spc="-1" strike="noStrike">
                <a:solidFill>
                  <a:srgbClr val="000000"/>
                </a:solidFill>
                <a:latin typeface="Arial"/>
              </a:rPr>
              <a:t>Teacher prompts and assist students 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age in text orientation and activate prior knowledge, connections and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n compreh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prediction skills and understanding of the reading and writing proces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ther students to help solv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 ideas of the auth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k questions a reader asks whe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Guided Reading is NO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Round Robin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Taking in turns to read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Reciprocal reading/teach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Silent reading and completing comprehension question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A group of students working together on the same text without their teacher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A group of students working with another adul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Staying in the one group all year or term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1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Decisions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ho are we going to work with? (Grouping)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hat are we going to teach them (focus)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hat are we going to use? (Texts)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Decisions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3000"/>
          </a:bodyPr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 algn="ctr">
              <a:spcBef>
                <a:spcPts val="11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400" spc="-1" strike="noStrike">
                <a:solidFill>
                  <a:srgbClr val="4b4b4b"/>
                </a:solidFill>
                <a:latin typeface="Arial"/>
              </a:rPr>
              <a:t>Focussed, deliberate observations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Independent Reading Conferences 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Reading Response Journal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Observations during whole class sessions 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Previous Guided reading session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On Demand: Adaptive, Linear or </a:t>
            </a: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Progress reports 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eaching for Strategie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Shoulder talk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3240" indent="-4532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How do we identify an instructional focus?</a:t>
            </a:r>
            <a:endParaRPr b="1" lang="en-US" sz="4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85880" y="1449360"/>
            <a:ext cx="117028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uided Reading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ndemand: Adaptive Line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ding Response Jou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assroom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ther formative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dependent Reading Con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aching for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79440" y="671400"/>
            <a:ext cx="12244320" cy="841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Resourc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50880" y="2009880"/>
            <a:ext cx="11702880" cy="6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Arial"/>
              </a:rPr>
              <a:t>Adequate variety of texts in multiple copies - a set of 6 copies and an additional copy for the teach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Naplan and Aim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Write Time for Kids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atching onto Comprehension 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ets of guided reading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Newspaper 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309680" y="1062000"/>
            <a:ext cx="10304640" cy="75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What are the other students doing?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4000"/>
          </a:bodyPr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he rest of the class is actively engaged in reading that they can do without support. 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0000"/>
                </a:solidFill>
                <a:latin typeface="Arial"/>
              </a:rPr>
              <a:t>They are practising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Reading independently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orking on reading tasks which reinforce a prior teaching focu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orking on texts to practise comprehension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orking on texts to practise reading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Responding to texts they have read or are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Listening to quality literature being read aloud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920" indent="-45792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Arial"/>
              </a:rPr>
              <a:t>Revisit Shared Reading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In your head, think - what have you stopped doing what have you started doing and what has stayed the same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11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400" spc="-1" strike="noStrike">
                <a:solidFill>
                  <a:srgbClr val="4b4b4b"/>
                </a:solidFill>
                <a:latin typeface="Arial"/>
              </a:rPr>
              <a:t>Share with a partner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18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7200" spc="-1" strike="noStrike">
                <a:solidFill>
                  <a:srgbClr val="4b4b4b"/>
                </a:solidFill>
                <a:latin typeface="Arial"/>
              </a:rPr>
              <a:t>Comments?</a:t>
            </a:r>
            <a:endParaRPr b="0" lang="en-US" sz="7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397240" y="3583080"/>
            <a:ext cx="57600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5565600" y="3510000"/>
            <a:ext cx="576360" cy="6476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8734320" y="3510000"/>
            <a:ext cx="576360" cy="6476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1830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How Do We Select Appropriate Text?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50880" y="1709640"/>
            <a:ext cx="11702880" cy="70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sed on instructional focus and knowledge of students i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needs to be appropriate to students’ learning needs, backgrounds, interests,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may have links to current topic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ually a new text for students, but may be re-visited for a specific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at an appropriate level: no more than 5-10 difficulties in every 10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68160" y="628560"/>
            <a:ext cx="11450880" cy="83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1965240" y="3006720"/>
            <a:ext cx="9072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We need to Pl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Planning needs to include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37960" y="1219320"/>
            <a:ext cx="11053800" cy="6827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7000"/>
          </a:bodyPr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hat are the supports that this text provides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hat are the challenges?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Strategies: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ithin the text – solving words, searching and using information, summarising, searching and using information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Beyond the text – predicting, making connections, inferring, synthesis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About the text – analysing, critiqu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Ref: Fountas and Pinnell</a:t>
            </a:r>
            <a:endParaRPr b="0" lang="en-US" sz="2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300" spc="-1" strike="noStrike">
                <a:solidFill>
                  <a:srgbClr val="ff0000"/>
                </a:solidFill>
                <a:latin typeface="Arial"/>
              </a:rPr>
              <a:t>Framework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Introducing – Building common background knowledge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Reading – text is broken into stopping point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Discussing – continual – students need to learn protocol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Teaching – every teachable momen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130400" y="1359000"/>
            <a:ext cx="109346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50760" tIns="65160" bIns="65160" anchor="ctr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6300"/>
            </a:br>
            <a:r>
              <a:rPr b="0" i="1" lang="en-US" sz="6300" spc="-1" strike="noStrike">
                <a:solidFill>
                  <a:srgbClr val="000000"/>
                </a:solidFill>
                <a:latin typeface="Arial"/>
              </a:rPr>
              <a:t>Does it look different across year levels?</a:t>
            </a:r>
            <a:br>
              <a:rPr sz="63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d Reading 1 2.V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d Reading Year 7.m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KING STOC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eference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66720" y="1395360"/>
            <a:ext cx="11703240" cy="75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Breakthrough  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ullan Hill and Crev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Literacy Teaching and Learning in Victorian Schools 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[Paper No 9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Teaching for Comprehending  and Fluency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Guided Reading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Effective Literacy Practice 1-4 and 5-8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NZ Ministry of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Victorian Essential Learning Standards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DEEC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www.education.vic.gov.au/studentlearning</a:t>
            </a:r>
            <a:r>
              <a:rPr b="0" lang="en-AU" sz="23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AU" sz="2300" spc="-1" strike="noStrike" u="sng">
                <a:solidFill>
                  <a:srgbClr val="009999"/>
                </a:solidFill>
                <a:uFillTx/>
                <a:latin typeface="Arial"/>
              </a:rPr>
              <a:t>teachingresources/english/literacy/default.htm</a:t>
            </a:r>
            <a:r>
              <a:rPr b="0" lang="en-AU" sz="23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30320" y="0"/>
            <a:ext cx="10622160" cy="816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72880" y="127800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 algn="ctr">
              <a:spcBef>
                <a:spcPts val="134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54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134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en-AU" sz="5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AU" sz="5400" spc="-1" strike="noStrike">
                <a:solidFill>
                  <a:srgbClr val="ff0000"/>
                </a:solidFill>
                <a:latin typeface="Arial"/>
              </a:rPr>
              <a:t> June</a:t>
            </a:r>
            <a:endParaRPr b="0" lang="en-US" sz="54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9 – 11 am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Here to suppor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Book with Penny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UID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teacher and a small group of their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purposefull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talk,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ir way through a common tex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rking collaborative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le 1"/>
          <p:cNvSpPr/>
          <p:nvPr/>
        </p:nvSpPr>
        <p:spPr>
          <a:xfrm>
            <a:off x="1138320" y="38088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ITERACY EL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100080" y="1677960"/>
            <a:ext cx="54496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Read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Up-Down Arrow 4"/>
          <p:cNvSpPr/>
          <p:nvPr/>
        </p:nvSpPr>
        <p:spPr>
          <a:xfrm>
            <a:off x="5281560" y="1373040"/>
            <a:ext cx="2743200" cy="59436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ff0000">
              <a:alpha val="8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AKING &amp;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3"/>
          <p:cNvSpPr/>
          <p:nvPr/>
        </p:nvSpPr>
        <p:spPr>
          <a:xfrm>
            <a:off x="7907400" y="1677960"/>
            <a:ext cx="5095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Write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68160" y="628560"/>
            <a:ext cx="11450880" cy="834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09" name="Right Arrow 2"/>
          <p:cNvSpPr/>
          <p:nvPr/>
        </p:nvSpPr>
        <p:spPr>
          <a:xfrm>
            <a:off x="1547640" y="3811680"/>
            <a:ext cx="2667240" cy="99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eft Arrow 3"/>
          <p:cNvSpPr/>
          <p:nvPr/>
        </p:nvSpPr>
        <p:spPr>
          <a:xfrm>
            <a:off x="8710560" y="3887640"/>
            <a:ext cx="289548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UID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teacher and a small group of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purposefull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talk,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A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ir way through a common tex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rking collaborative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38:24Z</dcterms:created>
  <dc:creator>Cato Purnell</dc:creator>
  <dc:description/>
  <dc:language>en-US</dc:language>
  <cp:lastModifiedBy>00888204</cp:lastModifiedBy>
  <dcterms:modified xsi:type="dcterms:W3CDTF">2011-06-07T03:00:05Z</dcterms:modified>
  <cp:revision>56</cp:revision>
  <dc:subject/>
  <dc:title>PowerPoint Presentation</dc:title>
</cp:coreProperties>
</file>